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C80-502C-48E9-ADAE-E7EA5DD7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FE4-AF37-4CD1-87DB-34E3488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012-59E5-45FF-96E5-B70C78D6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BCC-32C9-4F61-B152-1FEFF2FD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2DD-25B1-49C8-85C8-EF2E6092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4A6-40AB-47B7-912D-267A909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89F-E964-4525-9333-2F111D9C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FCF-FF35-4A6B-A2E7-3538C7C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C69-7F21-44C5-B8FD-461C0816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E1D-F33B-4605-8067-39A6829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6F8-C3D4-4241-9209-3EFD650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706-BEA8-4828-9954-DE66423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2A5-A268-43A4-9C77-D98D2075F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entisorg.com/" TargetMode="External"/><Relationship Id="rId2" Type="http://schemas.openxmlformats.org/officeDocument/2006/relationships/hyperlink" Target="http://www.otispregnancy.org/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ардиоваскуларни лекови у трудноћи и лакт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чење артеријске хипертензије у посебним гру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чење хипертензивне кр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ринар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атки мишићи бубрежне карлице и уретре су релаксирани па су бубрежна карлица и уретра дилатиране. Бибрези се повећавају у дужину 1-1,5 цм док уретра постаје дужа, шира и више закривљена, па је волумен резидуалног урина повећ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лаксација мишића бешике повећава капацитет и ризик од уринарних инфекција ренални крвни проток и гломеруларна филтрациј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за 50%. Истовремено се ↑ клиренс креатинина и ↓ уреа у серу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д половине трудноћа, оштећена тубуларна ресорпција глукозе заједно са ↑ гломеруларне филтрације изазива гликозурију. Не очекује се губитак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иво ренина и алдостерона ↑ што изазива ретенцију соли и в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ематолошке про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 црвених крвних зрнаца се ↑, али свега за 1/3 плазма волумена што за последицу има ↓ хемоглобина већ при крају другог трим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ј белих крвних зрнаца повећан, узрок непоз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 неколико фактора згушњавања крви и фибриногена је повећан, док се фибринолитичка активност смањ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трудноће активност протеина Ц и С се постепено смању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румска алкална фосфатаза (плацентног порекла) повишена је, док се серумски албумин смањује са малим смањењем серумских глобулина. Ово доводи до промене у пропорцији албумин:глобу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ормонске (нерепродуктивне) про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физа: ↓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SH/L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ATCH, TSH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аноцитни хормон и пролак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дбубрежна жлезда: ↑ стероида, ↑ алдостерона и декортикосте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роидна жлезда: жлезда се увећава услед  ↓ јода у плазми, ↑ Т3 и Т4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орма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трудноће може се развити инсулинска резистенција која може прерасти у дијабет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 система ренин-ангиотензин, али се не одражава на крв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емодинамске промене током нормалне трудноће, порођаја и постпорођајног пери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ремина крв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чана фреквен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утни волум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вни притиса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и волуме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стемска васкуларна резист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28760" y="500040"/>
          <a:ext cx="8229600" cy="5953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емодинамски парамет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м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м нормалне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току порођ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м постпорођајног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емина к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чана фреквен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5 удара/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тни волу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0% iznad normalnih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датних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очетку услед ↑ </a:t>
                      </a: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load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om  ↓ sa diurez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ни притис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m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ak na normalne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арни волу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местар; благо ↓ током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II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00-500 сс по контракциј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стемска васкуларна резис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ak na normalne vr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Фактори који утичу на кинетику лекова код труд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42920" y="1357200"/>
          <a:ext cx="8786880" cy="5394600"/>
        </p:xfrm>
        <a:graphic>
          <a:graphicData uri="http://schemas.openxmlformats.org/drawingml/2006/table">
            <a:tbl>
              <a:tblPr/>
              <a:tblGrid>
                <a:gridCol w="2000160"/>
                <a:gridCol w="678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за фармако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нетике л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рактеристичне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орп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естерона у плазми → ↓ интестинални мотилитет →↑ време пражњења желуца и црева за 30-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удачне киселине и секреије доводи до ↑ желудачне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tnog volumena i udisajnog protoka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ulmonarnu resorpciju le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риб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ерећење волуменом за 50% може изменити волумен дистрибуције лека; укупно средње повећање воде у телу мајке је 8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40% - ткиво мајке, 60% плацента, фетус и амнионска течно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зивање за протеине пла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ј расположивих рецептора (рецептори су заузети стероидним и плацентним хормони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албуминемија, ↓ везивање прот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не у нивоу ендогених супстанци могу изазвати ↑ и ↓ елиминацију лекова путем јетре (индукција или инхибиција микрозомалних ензима јетр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ални проток плазме ↑ за 25-50% →гломеруларна филтрација  ↑ за 50% → бубрежна елиминација лека 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актори који утичу на кинетику лекова код фе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2920" y="928800"/>
          <a:ext cx="8786880" cy="5668920"/>
        </p:xfrm>
        <a:graphic>
          <a:graphicData uri="http://schemas.openxmlformats.org/drawingml/2006/table">
            <a:tbl>
              <a:tblPr/>
              <a:tblGrid>
                <a:gridCol w="1785960"/>
                <a:gridCol w="700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за фармако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нетике л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рактеристичне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орп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 слободни (невезани) лекови могу прећи плацент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јонизовани молекули, као и молекули веома растворљиви у липидима пролазе биолошке мембране много брже од јонизованих молекула нерастворљивих у липи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јчинска и фетална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је важна детерминанта за трансфер кроз плаценту нарочито за слабо киселе и базне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рибу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вина феталне циркулације (умбиликална вена) директно снабдева срце и мозак заобилазећи је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зивање за протеине плаз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финитет лекова за феталне протеине плазме може бити смањен (ампицилин) или повећан 8салицилати) у односу на протеине ма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минација лекова код фетуса подразумева повратак лека дифузијом у циркулацију ма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а истраживања су показала да су фетус и плацента способни да сами метаболишу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ћина лекова се елиминише у амнионску течност с обзиром на то да се бубрези фетуса налазе у фази сазре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рисна пит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је узимање лека неопходно, имајући у виду тежину обољења и значај терапије за здравље и живот мај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лек може деловати штетно на развој фету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а ли нека фармакодинамијска дејства лекова утичу на ток трудноће и порођај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 физиолошке промене у организму мајке током трудноће утичу на фармакокинетику и следствено томе, на дозирање изабраног ле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ј адренергичке стимулације и блокаде на физиологију трудница и фе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1371600"/>
                <a:gridCol w="1371600"/>
                <a:gridCol w="13716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им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рецеп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чана фреквенција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ћана фреквенција труд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биликални крвни про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ст миометр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е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дралаз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агонисти калцијумских кан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гнезијум-сулф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ронична есенцијална ху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фа-метил-до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естациона хипер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429080" y="357120"/>
            <a:ext cx="450072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liberandum est saepe, statuendum seme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rum omnium magister us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алвуларне болести ср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рална стеноза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брилација или тахиарит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гокс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трална регургитација и аортна регург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п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омбоза дубоких вена и плућна ембол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фарин контраиндикован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hondrodysplasia puncta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чка атрофија фетуса, ментална ретардациј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омолекуларни хепар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Calibri"/>
              </a:rPr>
              <a:t>Фолна киселина у дози мањој од 0,5</a:t>
            </a:r>
            <a:r>
              <a:rPr b="1" lang="sr-Latn-CS" sz="3200" spc="-1" strike="noStrike">
                <a:solidFill>
                  <a:srgbClr val="c00000"/>
                </a:solidFill>
                <a:latin typeface="Calibri"/>
              </a:rPr>
              <a:t>m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лфа-метил-до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идока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ота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Индапа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троглице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илори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алт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нокси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адро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Реви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лопидогр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икл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ирофиб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434880"/>
          <a:ext cx="8229600" cy="5851800"/>
        </p:xfrm>
        <a:graphic>
          <a:graphicData uri="http://schemas.openxmlformats.org/drawingml/2006/table">
            <a:tbl>
              <a:tblPr/>
              <a:tblGrid>
                <a:gridCol w="1371600"/>
                <a:gridCol w="188604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-метил-д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атиколитик, антихипертензив првог избора код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гућ поремећај сна; смањење обима главе без пратећих неуролошких секвела и менталне ретардације; могућа хипотензија прва два дана жив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дока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, локални анесте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ије на животињама и људим показале су да нема тератогено ни токсично дејство; велике дозе могу изазвати депресију респирације код неонатуса; парацервикална и епидурална анестезија  може бити узрок хипотоније и брадикардије неона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а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блокатор, антиаритмик, антихипертенз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тератоген код животиња; нема адекватних хуман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14200"/>
          <a:ext cx="8229600" cy="621828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апа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сличан тиазидним диуретиц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тератоген код животиња; нема адекватних хуман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у терм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оглице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ема феталних оштећења; могућа је хипотензија, фетална брадикардија; делује токолитички и релаксан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штеди кал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је забележено тератогено дејство; описана хипоспадија ако се користи током првог триместра и блага ретардација раста ако се примењује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лте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оксип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ропар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ви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 мале молекулске теж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забележених нежељених ни тератогених дејстава; може се рутински примењивати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1596960"/>
          <a:ext cx="8229600" cy="347508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опидогр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забележених нежелјених ни тератогених дејстава; примећена је токсичност тиклодипина код животиња, нема података за хуману трудноћ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кл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рофиб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кс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Урапид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Теразо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Х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спирин (&lt;150 мг/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бциксима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лтепла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уметран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уросе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игок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тилдигок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тилеф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п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обут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пинефрин (адренал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Гемфиброз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Ципрофиб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зетими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нтаеритритил тетранит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Изосорбид 5-мононитр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олсидо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нтоксиф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ксиле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опафено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Ц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опран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Метопр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тен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етакс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Бисопр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ебиво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арведил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л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фе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мо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зол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Нитрен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аци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ерканидип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ерапам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Дилтиаз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429080" y="357120"/>
            <a:ext cx="4500720" cy="216684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zmisliti treba više puta, odlučiti jedamp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a je učitelj svem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1280" y="71280"/>
          <a:ext cx="9001440" cy="6786720"/>
        </p:xfrm>
        <a:graphic>
          <a:graphicData uri="http://schemas.openxmlformats.org/drawingml/2006/table">
            <a:tbl>
              <a:tblPr/>
              <a:tblGrid>
                <a:gridCol w="1609920"/>
                <a:gridCol w="2031840"/>
                <a:gridCol w="4262400"/>
                <a:gridCol w="1097280"/>
              </a:tblGrid>
              <a:tr h="129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с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пид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зо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лфа адренергичких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у тератогени код експерименталних животиња; при великим дозама телесна тежина на рођењу је смањена; нису примећена нежељена дејства код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коагул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је подаци о вези између кардиолошких дефеката и примене лека у првом триместру; повећана инциденца спонтаних побачаја, мртворођених; код трудница крварење и остеопе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 у дози &lt; 150 мг/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е дозе $0-150 мг/дан) не представљају ризик за фетус, код трудница могућа анемија, хеморагија, вертиго, тинитус, главобоље, хипервентилација, продужено трајање порођ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циксима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епоручује се примена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434880"/>
          <a:ext cx="8229600" cy="5765760"/>
        </p:xfrm>
        <a:graphic>
          <a:graphicData uri="http://schemas.openxmlformats.org/drawingml/2006/table">
            <a:tbl>
              <a:tblPr/>
              <a:tblGrid>
                <a:gridCol w="1371600"/>
                <a:gridCol w="2028960"/>
                <a:gridCol w="371448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птоки-н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теп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ли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у пријављена нежељена дејства код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-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метан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ци Хенлеове пет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мбриоцидни у великим доз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росем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на производља урина код фетуса – користи се за процену бубрежне функције; могућа веза са појавом хипоспад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илдигок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козиди дигитал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а тежина на рођењу, превремени порођа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фибро-з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профи-б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брати, хиполипем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токсичан; људи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rre-Robin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ov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дром и абнормалности можданих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434880"/>
          <a:ext cx="8229600" cy="594360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илеф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тропни ле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е повећати утероплацентну перфузију, релаксацију утеруса; не треба га користити током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смањена утероплацентална перфузија; лјуди – нема одговарајућих студија, фетална и неонатална нежељена дејства нису пријав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ут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није тератог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пинефрин (адренали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је контрадикторне информације о мањим и већим конгениталним малформацијама током првог триместра; повећана инциденца ингвиналне херн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14200" y="434880"/>
          <a:ext cx="8715600" cy="5673960"/>
        </p:xfrm>
        <a:graphic>
          <a:graphicData uri="http://schemas.openxmlformats.org/drawingml/2006/table">
            <a:tbl>
              <a:tblPr/>
              <a:tblGrid>
                <a:gridCol w="1559160"/>
                <a:gridCol w="1890720"/>
                <a:gridCol w="4086000"/>
                <a:gridCol w="117972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зетими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липе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одговарајућ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великим доз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аери-трит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сорбид-дин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сорбид 5-монон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и, органски нит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ембриотоксичан, фетотоксичан; људи – фетална оштећења, хипертензија код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сидо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токсифи-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зодилататор, перифе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фетотоксичан; има канцерогени потенцијал; људи постоје подаци о КВС дефектима,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a bifid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току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285840"/>
          <a:ext cx="8229600" cy="6400800"/>
        </p:xfrm>
        <a:graphic>
          <a:graphicData uri="http://schemas.openxmlformats.org/drawingml/2006/table">
            <a:tbl>
              <a:tblPr/>
              <a:tblGrid>
                <a:gridCol w="1542960"/>
                <a:gridCol w="171468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ксиле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; људи – ограничени подаци, није забележено оштећење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фен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, али је ембриотоксичан; људи – ограничени по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ран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пр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ен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кс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сопр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биво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ведил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бета адренергичких рецеп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, у великим дозама је ембриотоксичан; људи – у другом и трећем триместру у великим дозама може изазвати ретардацију раста, феталну брадикардију, хипогликемију, хипокалцемију праћену конвулзијама, полицитемију, хипербилирубинемију, тромбоцитопенију, респираторну депресију, продужено трајање порођаја и малу тежину на рођењ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71280" y="71280"/>
          <a:ext cx="9001440" cy="6683400"/>
        </p:xfrm>
        <a:graphic>
          <a:graphicData uri="http://schemas.openxmlformats.org/drawingml/2006/table">
            <a:tbl>
              <a:tblPr/>
              <a:tblGrid>
                <a:gridCol w="1845000"/>
                <a:gridCol w="1083960"/>
                <a:gridCol w="4853160"/>
                <a:gridCol w="121932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л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-ри калцију-мских кан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ембриотоксичан; људи не постоје по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фе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ембриотоксичан; људи – КВС дефекти праћени ретардацијом раста (други-трећи триместа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о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ол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ен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ци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рканиди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фетотоксичан; људи – нема одговарајућих контролисаних клиничких студ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а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апам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није тератоген али је фетотоксичан; људи – комплетни срчани блок и смрт фетуса у комбинацији са дигоксином; код мајке може изазвати хипотензију праћену феталном хипоксиј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лтиаз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тиње – тератоген и фетотоксичан; људи – КВС дефекти током првог трим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миода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спирин (&gt;150 мг/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пиронолак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Хидрохлортиаз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осар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алсарт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апто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Енал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изино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еридон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Рами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Квин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Цилазапр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осинопри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1280" y="71280"/>
          <a:ext cx="9001440" cy="6715440"/>
        </p:xfrm>
        <a:graphic>
          <a:graphicData uri="http://schemas.openxmlformats.org/drawingml/2006/table">
            <a:tbl>
              <a:tblPr/>
              <a:tblGrid>
                <a:gridCol w="1500480"/>
                <a:gridCol w="1714320"/>
                <a:gridCol w="4567320"/>
                <a:gridCol w="1219320"/>
              </a:tblGrid>
              <a:tr h="1230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ода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аритм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ардација раста, превремени порођај, конгенитални хипотиреоидизам, струма, пролазна фетална брадикардија са продуженим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, пуна доза, &gt; 150 мг/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агрегације тромбоц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а доза у трећем триместру изазива превремено затварање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us arteriosus-a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лућну хипертензију, ретардацију раста, перинатално крварење, смрт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онолакт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 који штеди калијум, антагонист алдосте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индикован током трудноће због антиандрогеног ефекта на фе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дрохлортиа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уретик, тиаз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гликемија, неонатална тромбоцитопенија и хемолитичка анемија, фетална брадикардија, фетална смрт, неонатална хипотонија и хипонатремија; код трудница – хипотензија, хипокалиемија, делују на утерус и онемогућавају порођа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, у терм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57200" y="434880"/>
          <a:ext cx="8229600" cy="5565960"/>
        </p:xfrm>
        <a:graphic>
          <a:graphicData uri="http://schemas.openxmlformats.org/drawingml/2006/table">
            <a:tbl>
              <a:tblPr/>
              <a:tblGrid>
                <a:gridCol w="1542960"/>
                <a:gridCol w="1714680"/>
                <a:gridCol w="3857400"/>
                <a:gridCol w="1114560"/>
              </a:tblGrid>
              <a:tr h="150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пт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ал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зин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дон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ми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ин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аза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синопр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гениталне малформације, ретардација раста, превремени порођај, превремено затварање </a:t>
                      </a: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us arteriosus-a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неонатална хипотензија, ренална инсуфицијенција, анемија, абнормалности мишићно-скелетног система, смрт фет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сар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сар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агонисти рецептора за ангиотензин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ksični i teratogeni kod životinja; treba ih izbegavati u trudno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FDA (</a:t>
            </a:r>
            <a:r>
              <a:rPr b="1" i="1" lang="sr-Latn-CS" sz="3200" spc="-1" strike="noStrike">
                <a:solidFill>
                  <a:srgbClr val="c00000"/>
                </a:solidFill>
                <a:latin typeface="Calibri"/>
              </a:rPr>
              <a:t>Food and Drug Administration</a:t>
            </a:r>
            <a:r>
              <a:rPr b="1" lang="sr-Latn-CS" sz="4000" spc="-1" strike="noStrike">
                <a:solidFill>
                  <a:srgbClr val="c00000"/>
                </a:solidFill>
                <a:latin typeface="Calibri"/>
              </a:rPr>
              <a:t>)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Calibri"/>
              </a:rPr>
              <a:t>Категорија 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Варф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ценокумаро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Сим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Ло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Пра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Флувастат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alibri"/>
              </a:rPr>
              <a:t>Аторвастат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рошлом веку за многа медицинска стања сматрало се да представљају контраиндикацију за трудноћ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преци у акушерству, неонатологији, акушерској анестезиологији и општој медицинској струци повећали су шансу за успешан исход трудноће, како за мајку тако и за фету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171440"/>
          <a:ext cx="8229600" cy="4114800"/>
        </p:xfrm>
        <a:graphic>
          <a:graphicData uri="http://schemas.openxmlformats.org/drawingml/2006/table">
            <a:tbl>
              <a:tblPr/>
              <a:tblGrid>
                <a:gridCol w="1471680"/>
                <a:gridCol w="1785960"/>
                <a:gridCol w="3857400"/>
                <a:gridCol w="111456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тенцијално нежељено дејство током трудно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лази плаце-нтну бариј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ф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коагула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гениталне малформације, варфаринска ембриопатија, фетална хеморагија, поремећаји формирања костију, абнормалност Ц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лу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орвастат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MG Co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дукта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тогени и токсични потенцијал испоњен у студијама на животињама; не постоје подаци о примени лека код љу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рисне </a:t>
            </a:r>
            <a:r>
              <a:rPr b="0" i="1" lang="sr-Latn-CS" sz="44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анице интерн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tisorg.co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otispregnancy.org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рофија миокарда леве ком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симптоматска атеросклер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икроалбумину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убрежна инсуфициј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случаају ранијег можданог уд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и антихипертенз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случају ранијег инфаркта миокар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гина пектор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калцијумских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чана инсуфициј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агонисти алдосте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Количина лека која долази до фетуса </a:t>
            </a:r>
            <a:br>
              <a:rPr sz="3600"/>
            </a:br>
            <a:r>
              <a:rPr b="0" i="1" lang="sr-Latn-RS" sz="3600" spc="-1" strike="noStrike">
                <a:solidFill>
                  <a:srgbClr val="000000"/>
                </a:solidFill>
                <a:latin typeface="Calibri"/>
              </a:rPr>
              <a:t>in utero</a:t>
            </a:r>
            <a:r>
              <a:rPr b="0" i="1" lang="sr-R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естацијски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лекулска тежина 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 чија је молекулска тежина &lt;400 Далтона, пролазе брже од високо нејонизованих и липофилних лекова; већина лекова 250-400 Далтон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епен везиванја за протеине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ок крви кроз мајчин организам и фе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положива површина плаценте преко које се врши размена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чка активност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тријална фибрил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хидродипириди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убрежна инсуфицијенција/протеину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ЦЕ  инхиби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окатори АТ1 рецеп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уретици Хенлеове пет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ортна стен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ст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гестивна срчана слаб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ша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ресија, ментална обо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ијабетес, пре-дијабет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сулинска резистен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и лип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е промене у нормалној трудно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васкулар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спиратор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инарни 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атолошке 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рмонске (нерепродуктивне) 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их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острана стеноза бубрежних арте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ериферне артеријск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00040" y="164304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уретиц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т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/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калцијумских кан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 инхиби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 адренергички блокат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ренергички агенси са централним деловањ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тори ангиотензин рецеп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у посебним груп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код деце и адолесц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код старих осо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 артеријске хипертензије у трудн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чење акутног хипертензивног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 средњег артеријског притиска не већа од 10-15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дукција вредности дијастолног притиска до 110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mHg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периоду од једног 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није препоруке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дукција средњег артеријског притиска од 20-25% у периоду од једне минуте  до једног часа, односно смањење до вредности 160/100-110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наредних два до шест час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начајна редукција средњег артеријског притиска непожељ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нал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ребрал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онарна хипопер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срчана слаб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ЦЕ инхиби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еналаприла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птопри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алаприлат 1,25-5,0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а доза; каптоприл 12,5-2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4-6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бубрежна 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ешка акутна хипертензија – хитно снижење артеријског притис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нор (артеријски и венски дилатато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атријум-нитро-прусид, и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0,3-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μg/kg/min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жљив мониторин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непосре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наузеја, повраћање, цијанидна токсич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исх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оно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итроглицер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5-10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-15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обоља, повраћ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исхемија + тахикард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ета и алфа блокатори; 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лабеталол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,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смол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,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еталол: ударна доза 2-10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;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,5-30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/k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6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зеја, повраћање, поремећаји спровођења, бронхоспа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рдиоваскуларни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инутни волумен ↑ за 30-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рчана фреквенца ↑ за 1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дарни волумен ↑ за 25-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јастолни крвни притисак ↓ за 5-10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ком 12-26 недеље, а онда се полако нормализује до 36 недељ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енски притисак ↑ у каснијем периоду трудноће, па су вене проширене нарочито у ног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ериферни отпор ↓ ~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олумен плазме се у просеку ↑ за 50% до 30 недеље да би омогућио додатни проток крви до утеруса, исхрану и оксигенацију фетуса. Ово омогућава ↑ перфузију коже која уклања прекомерно грејање – последица је ↑ метаболизма као и ↑ гломеруларне филтрације. ↑ волумена компезује губитак крви током порођаја (обично 500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оток крви у бубрезима, кожи и мук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без кардиолошких компл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локатор калцијумских кан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никардипин (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10 mg/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2-4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на тахикардија, црвени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лигна хипертензија + лоша бубрежна фун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гонист допамин1 рецептора (директни вазодолататор и вазодилататор реналних артерија са натриуретским деловањ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фенолдоп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0,2-0,5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/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kg/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0-15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потензија, главобо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ертензија + феохромоци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зам деловања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ериферни ватодилататори; алфа и бета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избора: фентолам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етал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ударна доза; инфу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з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толамин 1-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дарна доз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четак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жина деловањ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-5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флексна 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спиратор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пиларна дилатација изазива хиперемију горњих партија респираторног тракта што може ометати дисањ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↑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дисајни волумен и степен вентилације повећавају за 20% потрошњу кисео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строинтестинални тр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сни постају сунђерасте, трошне и склоне крвар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рушица код трудница је последица релаксације доњег езофагеалног сфинктера и смањене езофагеалне перистал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лудачна секреција је обично ↓ али може бити и ↑ током првог триме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стинални мотилитет је ↓ што омогућава повећану ресорпцију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учна кеса постаје хипотонична – смањено пражњење. Згушавање жучи омогућава формирање жучних каменч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5-09-29T06:26:43Z</dcterms:modified>
  <cp:revision>6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